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022-60B9-4EA7-9275-53F3DEEB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C0F-309D-4F9B-A7FF-40BF56FB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87E-BCB6-4A37-BFDE-8EC6CED0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FC3-D3CC-4EEA-BA02-A84F9122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7A368-0091-4ED6-A181-86244806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DB8C9-809A-4D32-AD81-4F921CC3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63F25-0317-4AE2-A25D-A071AE40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7D2DE-6B96-41DA-B9C3-4FC9A0EC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84615-CF0F-4148-A3E9-2DE55CE8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B0BF7-6D7B-4AAC-9DAA-672DD81D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57D2A-7B51-4B67-93AB-487D760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A04-D079-4C48-9055-B6C30C4E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99DCD-E11B-43D0-98EB-3655260C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A1B02-16B0-44CF-BD82-0F5A157A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86B60-63A2-4644-A251-FDB2D719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7A260-CA66-4B25-8B1B-3C67BCD6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9E6EF-7944-4120-A5B0-0EBAFB2E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792-0CEE-4C32-B87D-8E131F87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ED5-90D3-4AB2-A11C-DD6EBC4E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648-450D-4830-9163-E7774877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5C1-A3F0-417B-8AA5-504C5A2A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9D6-D64B-4F83-B324-8B03104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521-600B-4618-84B8-C657D2B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A40-9D27-45ED-BA04-C11D845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73F4-BD08-4984-BCCB-ECF727956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076F-66DF-4BEC-B054-7AC026877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Elizabeth bear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gara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garaje Es lujos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95280" y="2971800"/>
            <a:ext cx="5562720" cy="3398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bella 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la casa Es anti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5791320" cy="3662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 cocin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cina Es lujosa y impresionan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3880" y="2946240"/>
            <a:ext cx="5334120" cy="3911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 com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mmedor Es ma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3005280"/>
            <a:ext cx="4876920" cy="3852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la sala Es bon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81080" y="2833560"/>
            <a:ext cx="5181840" cy="4024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pat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patio Es bon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105160" cy="3876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ba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b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ó Es estupend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uarto Es fabul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3029040"/>
            <a:ext cx="5486400" cy="3828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jar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ì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ja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Es estupend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5334120" cy="3552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5:04:23Z</dcterms:created>
  <dc:creator>bearereli</dc:creator>
  <dc:description/>
  <dc:language>en-US</dc:language>
  <cp:lastModifiedBy>bearereli</cp:lastModifiedBy>
  <dcterms:modified xsi:type="dcterms:W3CDTF">2012-10-24T12:24:35Z</dcterms:modified>
  <cp:revision>4</cp:revision>
  <dc:subject/>
  <dc:title>La casa</dc:title>
</cp:coreProperties>
</file>